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8D6BA-3FAE-4E1B-80CB-2CD484AB5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DD19B-6166-4895-9155-686F82DA5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EEBB0-610A-4F4B-A0E6-C0C593A83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0811E-25D8-4A4C-8375-FF4D8456C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C166E-285B-4939-B540-E60CB943D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DECD3-B73B-45A4-ABF2-BDEA74441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E1AC4-4D0C-4C10-991C-67D655776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E9E8B-C03F-482D-BCC6-2E7092A89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060C2-C658-4B5E-BEEC-8D809CD42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39B85-7FEA-4A40-B7E4-FFB68EBFF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B1867-66A1-44F4-9D64-3767F79F0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E3EB7-257A-42CC-B078-1EF382137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88308-44CA-4F96-A63C-4BD9972DE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40ECE-4723-4D54-A107-14383AB5F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E8A49-F6BF-49D7-A8EF-4AE2C2EE5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A268C-E7E2-483F-9351-1E6380EC1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BEF08-4A39-48B1-B77C-50DA215FB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8199D-4319-47F0-A36F-0DC8A6ECD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B43EF-247A-49AB-8CD2-F62C575A2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9D98B-E0B8-415A-AB75-44026EE11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C4220-09D1-4BFD-8009-7FF2808F0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28C59-4BE7-4378-AB0F-B2637FD1E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DE218-B013-4AF6-B32E-1CE3EFA94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0FF20-38C5-491A-9154-5F6CA9346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4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5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6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7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8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9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0" name="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83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21" name=""/>
          <p:cNvGrpSpPr/>
          <p:nvPr/>
        </p:nvGrpSpPr>
        <p:grpSpPr>
          <a:xfrm>
            <a:off x="0" y="0"/>
            <a:ext cx="9144000" cy="380880"/>
            <a:chOff x="0" y="0"/>
            <a:chExt cx="9144000" cy="380880"/>
          </a:xfrm>
        </p:grpSpPr>
        <p:sp>
          <p:nvSpPr>
            <p:cNvPr id="22" name=""/>
            <p:cNvSpPr/>
            <p:nvPr/>
          </p:nvSpPr>
          <p:spPr>
            <a:xfrm>
              <a:off x="0" y="0"/>
              <a:ext cx="9144000" cy="380880"/>
            </a:xfrm>
            <a:prstGeom prst="rect">
              <a:avLst/>
            </a:prstGeom>
            <a:solidFill>
              <a:srgbClr val="f6b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pic>
          <p:nvPicPr>
            <p:cNvPr id="23" name="" descr=""/>
            <p:cNvPicPr/>
            <p:nvPr/>
          </p:nvPicPr>
          <p:blipFill>
            <a:blip r:embed="rId2"/>
            <a:stretch/>
          </p:blipFill>
          <p:spPr>
            <a:xfrm>
              <a:off x="762120" y="76320"/>
              <a:ext cx="7696080" cy="255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55DDD-8358-49D7-B8F1-D2F2FE7EE2A2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752480"/>
            <a:ext cx="910584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83" name=""/>
            <p:cNvGrpSpPr/>
            <p:nvPr/>
          </p:nvGrpSpPr>
          <p:grpSpPr>
            <a:xfrm>
              <a:off x="0" y="0"/>
              <a:ext cx="9144000" cy="866880"/>
              <a:chOff x="0" y="0"/>
              <a:chExt cx="9144000" cy="866880"/>
            </a:xfrm>
          </p:grpSpPr>
          <p:sp>
            <p:nvSpPr>
              <p:cNvPr id="84" name=""/>
              <p:cNvSpPr/>
              <p:nvPr/>
            </p:nvSpPr>
            <p:spPr>
              <a:xfrm>
                <a:off x="0" y="679320"/>
                <a:ext cx="9144000" cy="18756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492120"/>
                <a:ext cx="9144000" cy="18720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152280"/>
                <a:ext cx="9144000" cy="18756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30492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 flipV="1">
              <a:off x="0" y="0"/>
              <a:ext cx="611280" cy="6858000"/>
            </a:xfrm>
            <a:prstGeom prst="rect">
              <a:avLst/>
            </a:prstGeom>
            <a:solidFill>
              <a:srgbClr val="83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914400" y="3276720"/>
            <a:ext cx="7696080" cy="2556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4"/>
          </p:nvPr>
        </p:nvSpPr>
        <p:spPr>
          <a:xfrm>
            <a:off x="651960" y="6238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ftr" idx="5"/>
          </p:nvPr>
        </p:nvSpPr>
        <p:spPr>
          <a:xfrm>
            <a:off x="32349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E2F7C-8B57-4022-8DCE-F7266B19D81C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55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2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f6bf88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51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DIADYNAMIC CURRENT(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역동 전류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생리적 효과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(1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차적 효과 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통증감소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69880" y="1295280"/>
            <a:ext cx="78883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asking effect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면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어떤 증상을 다른 증상으로 바꾸어 그 효과를 모르게 하는 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대뇌에서 못 느끼게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면 효과 발생이 특징인 전류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 진통 방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제거하면 진통 사라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안티프라민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이 감각으로 바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얼음 마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생리적 효과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(1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차적 효과 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통증감소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69880" y="1295280"/>
            <a:ext cx="78883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관운동 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Diaclynamic current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로서 자극은 조직 내의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histanine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을 유리시키는 결과로 충혈과 혈관 확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직접적으로 천층 조직에 일어나지만 그 결과 반사적으로 심층에서도 발생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자극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특히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L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를 사용할 때 근 수축이 잘 일어나며 혈류 증대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동감의 자극 동통의 중추적 가면 효과를 일으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적응증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연부조직 손상 – 염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타박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상과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장애 – 고정 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 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환장애 –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Raynoid’s disease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삼차신경통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말초신경장애 – 신경통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대상포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radiculopathy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금기증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저주파 전기치료의 금기증에 준한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심장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피부상처 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마비부위 – 강하게 적용하지 않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돌출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임신한 사람의 피부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선택 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ain spot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양극술 –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+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도자는 동통점 위에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(-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도자는 동통점 근방에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음극 지절 근위부 혹은 통증부를 지배하는 신경근 위에 배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Nerve trunk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천층 말초신경의 경로를 따라서 배치 자극되는 신경에 의해 적용부위에 얼얼한 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aravertebral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두 도자를 통증부에 지배하는 신경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level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 척추골 양측에 둔다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선택 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Vasotropic application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향 혈관성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되어지는 순환장애부의 맥관 통로를 따라 도자 적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5) Myo-energetic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수축론적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복의 양단에 도자 배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극술로는 근육의 운동점에 한 도자가 사용되고 다른 도자는 근육 근위쪽에 배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부위를 통한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치료를 위해 관절 양측에 대면법으로 도자배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다양한 규격의 도자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습기 있는 스폰지 패드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임상적 적용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형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DF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첫 치료환자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다른 전류 적용 전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환 장애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에는 효과적이지 못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처음에는 따끔따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나중에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무렇지도 않다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263160" y="468000"/>
            <a:ext cx="819468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MF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경련 없는 통증치료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전감보다 더 오래 지속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침  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투적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보다 효과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CP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성 통증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 – 빠르게 감소되는 세밀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 – 강하고 일정한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충분한 강도로 율동적 근수축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-360" y="468360"/>
            <a:ext cx="8458200" cy="602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4) LP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통증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래 지속되는 진통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통치료에 있어서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와 병용하여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느리게 상하강하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따끔거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진동적인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을 느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5) RS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에 파라딕 형태의 근육자극을 위해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신경의 흥분성을 검사하기 위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치료강도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93400" y="1295280"/>
            <a:ext cx="8164440" cy="509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한정된 진동과 따끔거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 통전감이 느껴질 때까지 서서히 증가시켜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은 느껴지지 않아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시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체적인 치료시간 범위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0-1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을 초과하지 않아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일적용시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간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DF: 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CP: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LP: 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MF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RS: 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반적으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-7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매일 혹은 격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물리적 특성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Fixed Diphase(DF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고정된 이상성 전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형파를 진공관을 통과시켜 변조시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50Hz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 정현파를 전파장으로 정류시킨 단속 간격이 없는 직류 분획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밀한 진동과 따끔거리는 세동이 빠르게 사라짐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민감성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태보다 덜 국한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물리적 특성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(3)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일시적 진동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충혈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자율신경의 진통 효과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(4)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치료적 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강한 진통적 진정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spasm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감소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AN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자극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진정효과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797040" y="3583080"/>
            <a:ext cx="7680240" cy="27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2) Fixed Monophase(MF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고정된 단상성 전류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97960" y="1047600"/>
            <a:ext cx="7859880" cy="529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50Hz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의 단속평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50Hz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의 정현파를 반파장으로 전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pulse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와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interval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이 각각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10ms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침투적 진동감이 강하고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운동신경 자극역치는 상대적으로 약한 강도로도 가능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강축을 피해야 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진통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충혈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긴장성 발생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비경련성 장기 부종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결합조직과 근육의 긴장성 증가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장기의 퇴행성 부위와 염증의 국소적 진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척추분절과 좁은 압통점 부위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근수축 자극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순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부전부위의 순환 자극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23920" y="0"/>
            <a:ext cx="8920080" cy="31590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235080" y="3392640"/>
            <a:ext cx="8908920" cy="29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3) Short Period: Courtes Periods(CP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단기간의 통전시간 전류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7120" y="1425600"/>
            <a:ext cx="77724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M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 동안 쉬지 않고 교대로 반복해서 들어오는 전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교대 주파수는 선명하게 식별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통 효과 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액 순환 증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만성 통증에 좋으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지 파형 중에서 혈종과 부종 흡수에 가장 효과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후 질환에 있어서 진통효과에 부과된 부종 흡수와 좌골신경통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4) Long Period(LP: </a:t>
            </a: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긴 통전시간 전류</a:t>
            </a: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69880" y="1294920"/>
            <a:ext cx="7888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5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초간의 진폭이 변조되는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에 이어서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10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초간의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로 구성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긴 통전시간과 진폭이 변조된 까닭으로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에는 강한 진동과 세밀한 세동 사이의 완만하고 급격한 변화가 있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의 사전치료에 이어서 실시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급성 통증 질환에 빠르고 지속적인 진통효과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그 외에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와 같다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98360" y="279360"/>
            <a:ext cx="8558280" cy="31147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212760" y="3492360"/>
            <a:ext cx="8597880" cy="27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5) Rhythme Syncope(RS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리듬적 중력전략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52440" y="1193760"/>
            <a:ext cx="810576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간 휴식에 이어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가 전달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리된 전형 파형 내에서는 매우 강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격근에 강한 자극과 진통효과가 있지만 신경변성이 전체적으로 없을 때에만 사용 가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적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응전류 흥분성을 위한 진단 목적으로 사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무용성 근약증의 경우 골격근 자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결부 연화를 위해서 사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유착 조직의 괴리를 위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8T14:31:51Z</dcterms:created>
  <dc:creator>win xp</dc:creator>
  <dc:description/>
  <dc:language>en-US</dc:language>
  <cp:lastModifiedBy>win xp</cp:lastModifiedBy>
  <dcterms:modified xsi:type="dcterms:W3CDTF">2005-03-28T14:32:54Z</dcterms:modified>
  <cp:revision>2</cp:revision>
  <dc:subject/>
  <dc:title>DIADYNAMIC CURRENT(역동 전류)</dc:title>
</cp:coreProperties>
</file>